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3F0-C9E9-4DB3-8021-E79A9FBA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698-2C0C-4C35-A841-6640DE7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7FB-B65C-45A2-B445-B4B9F1BF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16D-3E03-4E88-8749-9FD2342F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EA05-2EBA-4C56-92F7-E9C698E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48D-9178-42CE-95CC-66516CE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E65-FCC1-4AE7-A3C5-6B2B2806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EDA-C381-4E8B-A70D-BA3619D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D910-71C0-4414-B47F-7ECD227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F19-43DD-4B00-9CFA-E329DD3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7757-1543-4751-B485-67A8080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B65-B5FC-4402-906C-970AB9F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C75A-FD93-4A10-A6B7-0E8BC13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953C-C1B6-419E-976D-27044B4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A324-A870-4D83-A276-3D62F156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671F-F0C8-4323-9E11-FD782731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E19-F1FE-40D9-9987-81ACDB18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7B9-F4B5-492B-9592-431D869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78D-D295-48E6-9F6C-903C772A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B24-C451-4CAD-A494-7490178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81E-7485-460D-A012-0CE97D0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A23-601E-47AD-8F77-2E5A02C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6D6-E601-4576-9AC2-5D622FCB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67C-EC55-4C8F-AC13-4C7D44F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A394-A35D-4C7B-B497-7DEA6EC4BD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0588-3F0B-49BE-827D-C6B9D576B7E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van.evart.ru/maxsz/9_val.im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van.evart.ru/maxsz/black_sea.im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van.evart.ru/maxsz/raibow.im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йзаж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ображение природ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тюрморт –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ображение вещей, которые нас окружаю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ртрет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ображение челове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050920" y="476280"/>
            <a:ext cx="3648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анры живопи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саак Ильич Левитан «Над вечным покоем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Исаак ЛЕВИТАН. Исаак ЛЕВИТАН (1860-1900). Над вечным покоем (Картинки) "/>
          <p:cNvPicPr/>
          <p:nvPr/>
        </p:nvPicPr>
        <p:blipFill>
          <a:blip r:embed="rId1"/>
          <a:stretch/>
        </p:blipFill>
        <p:spPr>
          <a:xfrm>
            <a:off x="1692360" y="1844640"/>
            <a:ext cx="4876560" cy="349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ван Иванович Шишкин «Зим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5" descr="1-web"/>
          <p:cNvPicPr/>
          <p:nvPr/>
        </p:nvPicPr>
        <p:blipFill>
          <a:blip r:embed="rId1"/>
          <a:stretch/>
        </p:blipFill>
        <p:spPr>
          <a:xfrm>
            <a:off x="1835280" y="1989000"/>
            <a:ext cx="476244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.И.Шишкин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 «На севере диком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7" descr="Na-severe-dikom"/>
          <p:cNvPicPr/>
          <p:nvPr/>
        </p:nvPicPr>
        <p:blipFill>
          <a:blip r:embed="rId1"/>
          <a:stretch/>
        </p:blipFill>
        <p:spPr>
          <a:xfrm>
            <a:off x="250920" y="260280"/>
            <a:ext cx="4762440" cy="634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ван Иванович Шишкин «Лесная полян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7" descr="Lesnaja-poljana"/>
          <p:cNvPicPr/>
          <p:nvPr/>
        </p:nvPicPr>
        <p:blipFill>
          <a:blip r:embed="rId1"/>
          <a:stretch/>
        </p:blipFill>
        <p:spPr>
          <a:xfrm>
            <a:off x="1619280" y="1844640"/>
            <a:ext cx="496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179280" y="2276640"/>
            <a:ext cx="8604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1196523684__22"/>
          <p:cNvPicPr/>
          <p:nvPr/>
        </p:nvPicPr>
        <p:blipFill>
          <a:blip r:embed="rId1"/>
          <a:stretch/>
        </p:blipFill>
        <p:spPr>
          <a:xfrm>
            <a:off x="2025720" y="1878120"/>
            <a:ext cx="5092560" cy="397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4" descr="1196523582__2"/>
          <p:cNvPicPr/>
          <p:nvPr/>
        </p:nvPicPr>
        <p:blipFill>
          <a:blip r:embed="rId1"/>
          <a:stretch/>
        </p:blipFill>
        <p:spPr>
          <a:xfrm>
            <a:off x="2025720" y="1630440"/>
            <a:ext cx="5092560" cy="447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Художник, работающий в жанре пейзажа   -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484360" y="549360"/>
            <a:ext cx="3818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йзаж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1763640" y="1916280"/>
            <a:ext cx="5724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ображение живой природ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492360" y="4508640"/>
            <a:ext cx="20005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ейзажис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ван Константинович Айвазовский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«Девятый вал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Иван Айвазовский. Девятый вал. 1850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133720"/>
            <a:ext cx="5715000" cy="381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ван Константинович Айвазовский «Чёрное море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5" descr="Иван Айвазовский. Черное море. 1881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916280"/>
            <a:ext cx="571500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ван Константинович Айвазовский «Радуг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11" descr="Иван Айвазовский. Радуга. 1873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5715000" cy="437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Исаак Ильич Левитан «Вечер. Золотой плёс»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Исаак ЛЕВИТАН. Исаак ЛЕВИТАН (1860-1900). Вечер. Золотой Плёс (Картинки) "/>
          <p:cNvPicPr/>
          <p:nvPr/>
        </p:nvPicPr>
        <p:blipFill>
          <a:blip r:embed="rId1"/>
          <a:stretch/>
        </p:blipFill>
        <p:spPr>
          <a:xfrm>
            <a:off x="1692360" y="1844640"/>
            <a:ext cx="487656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саак Ильич Левитан «Лилии. Ненюфары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Исаак ЛЕВИТАН. Исаак ЛЕВИТАН (1860-1900). Лилии. Ненюфары (Картинки) "/>
          <p:cNvPicPr/>
          <p:nvPr/>
        </p:nvPicPr>
        <p:blipFill>
          <a:blip r:embed="rId1"/>
          <a:stretch/>
        </p:blipFill>
        <p:spPr>
          <a:xfrm>
            <a:off x="1619280" y="1844640"/>
            <a:ext cx="487692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29:45Z</dcterms:created>
  <dc:creator>Юля</dc:creator>
  <dc:description/>
  <dc:language>en-US</dc:language>
  <cp:lastModifiedBy>Гульнур</cp:lastModifiedBy>
  <dcterms:modified xsi:type="dcterms:W3CDTF">2012-05-19T05:20:28Z</dcterms:modified>
  <cp:revision>21</cp:revision>
  <dc:subject/>
  <dc:title>Урок изобразительного искусства</dc:title>
</cp:coreProperties>
</file>